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B894-7B3B-4447-8527-9C5C2E22031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AF52-478A-46F0-A65B-3A03DF04C7C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F4F9-B767-4F03-B7E6-6DE3958D100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8CDA-818D-439B-AF84-3032BFCC5DD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5333-2ABE-4C33-B3B2-44276D646A6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14E-7DF7-4906-AC82-83B86FFA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5F4-B10B-4482-862E-24392077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3D13-5BD4-4CD1-967E-6E3138C9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68E-F743-46D1-BC59-70518133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7CA2-0C9D-4828-87E0-68FA8829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17CD-7156-428A-A2A2-CD010431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EF8F-542F-4EFB-858A-B5AFE0F3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77AC-E449-4A9F-BD24-B3C62AB4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DF97-0964-4EF1-A3C2-8E28D180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A164-D091-486A-B68E-1FE87B87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93E6-E02B-4793-AD5C-2A017161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6EE9-07DF-497F-91DF-61B313CD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34B4-7C9D-4522-BC32-E4EB7A29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41E3-148F-44F5-8BA8-D075E2D0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F124-5975-47BD-BDE1-836FA3AB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6A67-C0AC-4E3B-B64A-2B1F431A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C192-32E4-4F70-AF6E-741EAF5D2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C48-A9C7-406E-B907-7DB97491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7163-CBAD-4255-81B8-E781B2E2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29A-B8D2-4568-8C49-DD6EA29A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7BE-5089-4914-91DA-9B205445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8BBE-4905-458A-9C99-549A813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8E7-6641-4175-B685-236BE2C9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CE6-87E1-44C8-916C-928CBBB4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Verdan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6264-C2C8-4285-BBBD-7963D3D00DB1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Verdana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1870-E9DD-4429-9FAA-C2A7877685A3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7360" y="1676520"/>
            <a:ext cx="7767720" cy="36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Diabetes Mellitus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Pathology and complications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By</a:t>
            </a:r>
            <a:br>
              <a:rPr sz="3600"/>
            </a:br>
            <a:r>
              <a:rPr b="1" lang="en-US" sz="4400" spc="-1" strike="noStrike">
                <a:solidFill>
                  <a:srgbClr val="7030a0"/>
                </a:solidFill>
                <a:latin typeface="Calibri"/>
                <a:ea typeface="Times New Roman"/>
              </a:rPr>
              <a:t>Dr. Abdelaty Shawky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Assistant professor of patholog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C:\Users\ashawky\Desktop\mcst logo.jpg"/>
          <p:cNvPicPr/>
          <p:nvPr/>
        </p:nvPicPr>
        <p:blipFill>
          <a:blip r:embed="rId1"/>
          <a:stretch/>
        </p:blipFill>
        <p:spPr>
          <a:xfrm>
            <a:off x="5886360" y="762120"/>
            <a:ext cx="262908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Predisposing factors for D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599840"/>
            <a:ext cx="777240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fec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rau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yocardial Infar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ro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rg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motional str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3382-69EE-47ED-8EAA-2045D0D69660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761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Clinical presentation of DK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Polyurea and polydeps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Nausea and vomit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Anorexia and abdominal pa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Tachycard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Sign of dehydra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Hypoton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Com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0A8F-3A88-49F0-8A7E-B3BCD9C73374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Diagnosis of DK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Hyperglyc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Ketonuria and keton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Acidosis (PH&lt; 7.3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8D2A-C4E6-47B9-A6EA-DCC14E355AE6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Treatment of DK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62120" y="19810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Fluid replacemen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Insulin therapy for hyperglycemi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Electrolyte corre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Acidosis corre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Treatment of precipitating cause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0DF0-1CD5-47F3-A5F1-9E3202D14807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694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Complications of DK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160" y="16002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Cerebral ed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Vascular thromb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Inf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M 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Respiratory distress  syndr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8BF6-7519-4289-8B1F-F0493F24323B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5486400" cy="1067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Hypoglycemic c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160" y="1828800"/>
            <a:ext cx="80010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poglycemia is the most frequent acute complication in type 1 diabe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ypoglycemia is the level of blood glucose at whic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utonomi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rologic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ysfunction begins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5D24-2B52-45FB-8854-55691ACB1E2F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815004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Clinical manifestations of hypoglycemi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utonomic dysfunction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. Hu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3. Palpi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. Anxie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. Pal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6. Swe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1F96-D1FC-424B-991A-30B429F213EC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Neurologic dysfunc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. Impaired thin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 Change of m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3. Irri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. Heada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.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6. 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D532-96A5-45FC-87C4-56CBE3E84909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Predisposing facto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047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issed m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hange in physical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terations or errors in insulin dos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cohol inges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5341-DD6D-4F0A-B721-2774DBFF35D2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Treatment of hypoglyc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520" y="1676520"/>
            <a:ext cx="861084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n mild case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oral rapidly absorbed carbohydra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n sever case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(comatose patient) I.V hypertonic glucose 25% or 50% concentration &amp; glucagon inje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2AAA-A293-4F33-A520-1789479394D4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533520"/>
            <a:ext cx="56433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Diabetes Mellit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etabolic disease affecting CHO, protein and fat metabolism due to insulin deficiency or in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wo typ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ype I  (insulin dependen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5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ype II (insulin independent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13716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bri"/>
                <a:ea typeface="Times New Roman"/>
              </a:rPr>
              <a:t>Chronic Complications of D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A. Macrovascular Complicat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Arial"/>
              </a:rPr>
              <a:t>B. Microvascular Complicat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B57F-6159-4BF9-A09F-837B842429A9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99776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A. Macro-vascular Complications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2860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celerated atherosclero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involving the aorta and large- and medium-sized arter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yocardial infar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, caused by atherosclerosis of the coronary arteries, is the most common cause of death in diabetic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angrene of the lower extrem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yperten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due to Hyaline arterioloscler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BC3B-5AE3-47B5-8FB3-407BF3733A4F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04920" y="1295280"/>
            <a:ext cx="8610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icrovascular complications are specific to diabetes and related to longstanding hyperglycaem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 diabetes, the microvasculature shows bo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unction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structur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bnormalit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structural hallmark of diabetic microangiopathy is thickening of the capillary basement membra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85800" y="54756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B. </a:t>
            </a:r>
            <a:r>
              <a:rPr b="1" lang="hu-HU" sz="3200" spc="-1" strike="noStrike">
                <a:solidFill>
                  <a:srgbClr val="ff0000"/>
                </a:solidFill>
                <a:latin typeface="Verdana"/>
                <a:ea typeface="Arial"/>
              </a:rPr>
              <a:t>Microvascular </a:t>
            </a:r>
            <a:r>
              <a:rPr b="1" lang="en-US" sz="3200" spc="-1" strike="noStrike">
                <a:solidFill>
                  <a:srgbClr val="ff0000"/>
                </a:solidFill>
                <a:latin typeface="Verdana"/>
                <a:ea typeface="Arial"/>
              </a:rPr>
              <a:t>C</a:t>
            </a:r>
            <a:r>
              <a:rPr b="1" lang="hu-HU" sz="3200" spc="-1" strike="noStrike">
                <a:solidFill>
                  <a:srgbClr val="ff0000"/>
                </a:solidFill>
                <a:latin typeface="Verdana"/>
                <a:ea typeface="Arial"/>
              </a:rPr>
              <a:t>om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C26B-CE8D-4BB2-A028-737A02811708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any chemical changes in basement membrane composition have been identified in diabetes, including increased type IV collagen and its glycosylation (i.e. binding of glucose to wall of blood vessel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0341-9869-4EAD-A475-0218685C684F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6840" y="380520"/>
            <a:ext cx="82263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he main functional abnormalities include increased capillary permeability and disturbed platelet fun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creased capillary permeability is manifested in the retina by exudation and in the kidney by increased urinary losses of albumi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latelets from diabetic patients show an exaggerated tendency to aggregate, perhaps mediated by altered prostaglandin metabolis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2AAF-3925-4087-A8B1-B7F7B9D70952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Diabetic retinopathy</a:t>
            </a:r>
            <a:r>
              <a:rPr b="1" lang="hu-H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87D9-4BE8-4CD4-9CE3-D1F0D535EE98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* </a:t>
            </a: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thological les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hickening of the capillary basement membra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apillary dila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 (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microaneury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) which may give rise to;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aemorrhage or exud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red dots and blots)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Vascular occlus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leads t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l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arge ischaemic area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cotton-wool spo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5442-59A0-4EAE-A121-22896FB83DB5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My Resource\Lectures\diabetes\normal retina.jpg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5003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Normal Ret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4"/>
          <p:cNvSpPr/>
          <p:nvPr/>
        </p:nvSpPr>
        <p:spPr>
          <a:xfrm rot="4465800">
            <a:off x="4304880" y="2057400"/>
            <a:ext cx="533160" cy="685800"/>
          </a:xfrm>
          <a:prstGeom prst="downArrow">
            <a:avLst>
              <a:gd name="adj1" fmla="val 50000"/>
              <a:gd name="adj2" fmla="val 32157"/>
            </a:avLst>
          </a:prstGeom>
          <a:solidFill>
            <a:srgbClr val="f0eb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5"/>
          <p:cNvSpPr/>
          <p:nvPr/>
        </p:nvSpPr>
        <p:spPr>
          <a:xfrm rot="3543600">
            <a:off x="4647960" y="335268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f0eb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4D62-A2E5-456B-BCD3-9515E247D867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685800" y="0"/>
            <a:ext cx="76960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36A9-BB02-46DB-8F7D-253E8C5FA7E3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My Resource\Lectures\diabetes\diabetic retina1.jpg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52038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Diabetic Retin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AutoShape 4"/>
          <p:cNvSpPr/>
          <p:nvPr/>
        </p:nvSpPr>
        <p:spPr>
          <a:xfrm rot="4465800">
            <a:off x="6552720" y="3085920"/>
            <a:ext cx="533520" cy="685800"/>
          </a:xfrm>
          <a:prstGeom prst="downArrow">
            <a:avLst>
              <a:gd name="adj1" fmla="val 50000"/>
              <a:gd name="adj2" fmla="val 32136"/>
            </a:avLst>
          </a:prstGeom>
          <a:solidFill>
            <a:srgbClr val="f0eb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AutoShape 5"/>
          <p:cNvSpPr/>
          <p:nvPr/>
        </p:nvSpPr>
        <p:spPr>
          <a:xfrm rot="3543600">
            <a:off x="4876560" y="2286000"/>
            <a:ext cx="533160" cy="685800"/>
          </a:xfrm>
          <a:prstGeom prst="downArrow">
            <a:avLst>
              <a:gd name="adj1" fmla="val 50000"/>
              <a:gd name="adj2" fmla="val 32157"/>
            </a:avLst>
          </a:prstGeom>
          <a:solidFill>
            <a:srgbClr val="f0eb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5041800" y="1741320"/>
            <a:ext cx="3286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b16"/>
                </a:solidFill>
                <a:latin typeface="Times New Roman"/>
                <a:ea typeface="Arial"/>
              </a:rPr>
              <a:t>Cotton wool sp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7D09-75FB-4507-B466-49DB3C476E0B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1066680"/>
          <a:ext cx="8381880" cy="5029200"/>
        </p:xfrm>
        <a:graphic>
          <a:graphicData uri="http://schemas.openxmlformats.org/drawingml/2006/table">
            <a:tbl>
              <a:tblPr/>
              <a:tblGrid>
                <a:gridCol w="1969920"/>
                <a:gridCol w="3332160"/>
                <a:gridCol w="3079800"/>
              </a:tblGrid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rt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der 25 yea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ove 40 yea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B. Cell mas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duc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68760" rIns="68760" tIns="0" bIns="0" anchor="t">
                      <a:noAutofit/>
                    </a:bodyPr>
                    <a:p>
                      <a:pPr marL="127080" indent="-127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Insulin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4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 Etiolo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editar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immune destruction of the B.cel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98360"/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reased insulin specific surface receptors on most of the body cel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198360"/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mature aging of body cells including B.cell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EADF-DFAE-4601-BD82-C239F3B7DF98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Eye Co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827000"/>
            <a:ext cx="82263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atara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itreous Blee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1BBB-4575-47E2-B7E9-F9C7B6335404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347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itreous Blee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328680" y="1941480"/>
            <a:ext cx="4022640" cy="3276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2"/>
          <a:stretch/>
        </p:blipFill>
        <p:spPr>
          <a:xfrm>
            <a:off x="4514760" y="1941480"/>
            <a:ext cx="4022640" cy="3276720"/>
          </a:xfrm>
          <a:prstGeom prst="rect">
            <a:avLst/>
          </a:prstGeom>
          <a:ln w="0">
            <a:noFill/>
          </a:ln>
        </p:spPr>
      </p:pic>
      <p:sp>
        <p:nvSpPr>
          <p:cNvPr id="201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0B8D-A79B-48AC-8582-C890E66BF394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Diabetic Nephropathy (D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6846-541A-44A9-861B-39D3DF79A6C6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Diabetic nephropathy is defined by persistent albuminuria (&gt;300 mg/day)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decrease glom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erular filtration rate and rising blood pr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- About 20 – 30% of patients with diabetes develop diabetic nephropathy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4FDB-64A9-4D90-8191-8B7FBEDA88B1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297144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  <a:ea typeface="Times New Roman"/>
              </a:rPr>
              <a:t>Diabetic Neuropath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E9EF-D894-4AF1-A0D9-051C1762BDB3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1. Sensorimotor neuropath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2. Autonomic neuropath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57F3-3B6A-48C7-A867-2D785DF89959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Sensorimotor Neur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umbness, paresthesi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eet are mostly affected, hands are seldom affec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Complicated by ulceration (painless), charcot arthropathy, Callos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D705-5F5C-4AFF-81D3-8C732C4DBAFD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10720" y="837720"/>
            <a:ext cx="78757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ications of Sensorimotor neur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Typical Neuropathic Ulcer"/>
          <p:cNvPicPr/>
          <p:nvPr/>
        </p:nvPicPr>
        <p:blipFill>
          <a:blip r:embed="rId1"/>
          <a:stretch/>
        </p:blipFill>
        <p:spPr>
          <a:xfrm>
            <a:off x="1143000" y="2209680"/>
            <a:ext cx="3736800" cy="28195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5"/>
          <p:cNvSpPr/>
          <p:nvPr/>
        </p:nvSpPr>
        <p:spPr>
          <a:xfrm>
            <a:off x="283212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2689200" y="19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12" descr="Charcot's arthropathy "/>
          <p:cNvPicPr/>
          <p:nvPr/>
        </p:nvPicPr>
        <p:blipFill>
          <a:blip r:embed="rId2"/>
          <a:stretch/>
        </p:blipFill>
        <p:spPr>
          <a:xfrm>
            <a:off x="5334120" y="2209680"/>
            <a:ext cx="3429000" cy="2819520"/>
          </a:xfrm>
          <a:prstGeom prst="rect">
            <a:avLst/>
          </a:prstGeom>
          <a:ln w="0">
            <a:noFill/>
          </a:ln>
        </p:spPr>
      </p:pic>
      <p:sp>
        <p:nvSpPr>
          <p:cNvPr id="22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B2D-F273-4B80-977F-2F619C77D3DC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Autonomic Neuropa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8080" y="19807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ostural hypote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iabetic diarrh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rectile dys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5782-77F0-4411-8643-ABFC49267F7B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85440" y="685800"/>
            <a:ext cx="25909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15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0000"/>
                </a:solidFill>
                <a:latin typeface="Blackadder ITC"/>
                <a:ea typeface="Arial"/>
              </a:rPr>
              <a:t>The end</a:t>
            </a:r>
            <a:endParaRPr b="0" lang="en-US" sz="6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C:\Users\ashawky\Desktop\photos\531816_10151360233905180_1023827343_n.jpg"/>
          <p:cNvPicPr/>
          <p:nvPr/>
        </p:nvPicPr>
        <p:blipFill>
          <a:blip r:embed="rId1"/>
          <a:stretch/>
        </p:blipFill>
        <p:spPr>
          <a:xfrm>
            <a:off x="3048120" y="217188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Verdana"/>
              </a:rPr>
              <a:t>Mon 29 0ct 20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739B-B3C4-4096-A111-1FFEC4416652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* Pathological les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1. Pancrea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In type I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ncreas is atrophic. M/P: degranulated and destroyed B.cells, lymphocytic infiltration and fibr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 In type II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ancreas is normal. M/P: normal in early stage, later on shows hyalin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3B16-1349-4972-A0C7-FD2C2D5467CD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2. Disturbance of metabolism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Carbohydrate metabolism: Hyperglycemia due to either decreased glucose utilization or due to glycogenolysis, leads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Glucose retention in the tissue (increase the liability to infection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Glycogen deposition in the tissues (heart, muscle, kidney and pancrea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Glucosuria: leads to osmotic diuresis and dehyd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B4F3-0D67-4762-91CC-6C8B8E764B25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B. Fat metabolis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polysis:  Leads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Hyperlipidaemia (atheroma formation and fatty infiltration in the parenchymatous orga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Formation of ketone bodies in the liver with keto-acidosis and c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C. Protein metabolis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s of we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1844-3C5E-4E45-9F5E-C695C95F8DA7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3. Vascular change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Diabetic macroangiopathy: accelerated atherosclerosis in aorta, large and medium sized arter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Hyaline arterioloscelrosis: hyaline thickening of the arterioles due to deposition of hyaline mater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Diabetic microangiopathy:  diffuse thickening of the basement membranes due to deposition of hyaline material. Involves predominantly the capillaries of, retina, renal glomeruli, and peripheral nerves.  Leads to diabetic nephropathy, retinopathy and neuropath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96EA-1C1E-4B9B-AFA1-E6CF465989A4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1048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* </a:t>
            </a:r>
            <a:r>
              <a:rPr b="1" i="1" lang="hu-H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ications of diabetes mellitus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28600" y="1143000"/>
            <a:ext cx="8610480" cy="53690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0000"/>
                </a:solidFill>
                <a:latin typeface="Calibri"/>
                <a:ea typeface="Arial"/>
              </a:rPr>
              <a:t>Acute complications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1" lang="hu-HU" sz="2600" spc="-1" strike="noStrike">
                <a:solidFill>
                  <a:srgbClr val="000000"/>
                </a:solidFill>
                <a:latin typeface="Calibri"/>
                <a:ea typeface="Arial"/>
              </a:rPr>
              <a:t>iabetic ketoacidos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Hypoglycemic co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II. </a:t>
            </a:r>
            <a:r>
              <a:rPr b="1" lang="hu-HU" sz="2400" spc="-1" strike="noStrike">
                <a:solidFill>
                  <a:srgbClr val="ff0000"/>
                </a:solidFill>
                <a:latin typeface="Calibri"/>
                <a:ea typeface="Arial"/>
              </a:rPr>
              <a:t>Chronic complica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8989"/>
                </a:solidFill>
                <a:latin typeface="Calibri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a. </a:t>
            </a:r>
            <a:r>
              <a:rPr b="1" lang="hu-H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Microvasc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etin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ephr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Neur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b. </a:t>
            </a:r>
            <a:r>
              <a:rPr b="1" lang="hu-HU" sz="2400" spc="-1" strike="noStrike" u="sng">
                <a:solidFill>
                  <a:srgbClr val="0000ff"/>
                </a:solidFill>
                <a:uFillTx/>
                <a:latin typeface="Calibri"/>
                <a:ea typeface="Arial"/>
              </a:rPr>
              <a:t>Macrovascu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Cerbrovascula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Cardiovascular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Calibri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</a:t>
            </a: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eripheral vascular diseas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39152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Times New Roman"/>
              </a:rPr>
              <a:t>Diabetic ketoacidosis (DKA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981080"/>
            <a:ext cx="83822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May be the 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s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 presentation of type 1 D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Result from absolute insulin deficiency or increase requirem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Mortality rate around 5%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ate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B007-9626-435E-94E0-4C5640DCDFC6}" type="slidenum">
              <a:rPr b="0" lang="ar-SA" sz="1200" spc="-1" strike="noStrike">
                <a:solidFill>
                  <a:srgbClr val="898989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2:31:21Z</dcterms:created>
  <dc:creator>buergeln</dc:creator>
  <dc:description/>
  <dc:language>en-US</dc:language>
  <cp:lastModifiedBy>Eman Enan</cp:lastModifiedBy>
  <dcterms:modified xsi:type="dcterms:W3CDTF">2015-10-06T07:27:37Z</dcterms:modified>
  <cp:revision>312</cp:revision>
  <dc:subject/>
  <dc:title>Diabetes</dc:title>
</cp:coreProperties>
</file>